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9.pct" ContentType="image/x-pict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44C-AF42-4D13-AC50-BFB8188B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1DC3-FD7F-4BC2-BFF1-A3B4B760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098-13E9-4D1E-AEA3-9144070A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0042-C7E4-47EA-9A3C-988D1D0E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E092-1A7A-4964-B656-6BEA2B81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B150-974D-4DAC-B1D8-80BC41FC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0B10-3ED8-463D-ADB9-04C9E3ED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29AA-4435-4F95-BE8D-06F957F8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3479-4DDE-4086-A7DD-412CAE8D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6A58-E1EC-41DE-AE84-A00FC77A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4BC5-909C-44F5-A408-07F43AB8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3117-744D-477A-AB14-ED2A156E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4760-2140-4820-B474-E2C943B5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24D6-F964-4CE5-B57A-85ACC11F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895E-5E33-4DC3-BE17-E20DC4B5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4FC7-0FA7-4776-9A3C-6659BC86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B111-7FE4-4FAD-A1EF-428C36A3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21E8-2847-487A-A032-3DBDE064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8339-4FFF-44F7-901A-1DDAAE84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005-3326-428C-BD62-4E54CE59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AD4-C1B9-4BE2-BC3C-B4632530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97ED-EAA5-440D-847C-BABAEE2C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FAE3-3EB6-4E62-965C-CB8ACBE9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3A86-5106-4EF7-B159-3C9CE70B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A6F0-442B-4F07-A0BF-2CE899AEE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plant"/>
          <p:cNvPicPr/>
          <p:nvPr/>
        </p:nvPicPr>
        <p:blipFill>
          <a:blip r:embed="rId3"/>
          <a:stretch/>
        </p:blipFill>
        <p:spPr>
          <a:xfrm>
            <a:off x="5257800" y="2286000"/>
            <a:ext cx="4240080" cy="474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8F7A-5ADE-4D75-AE68-32F589ABE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caert.com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129528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9795" dir="389898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plaining a Soil Profil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lculating Percent Slop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4" descr="cartlogo_s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086520"/>
            <a:ext cx="66672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sing Percent Slop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ce slope is calculated, it can be used to determine land us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etermine C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Z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sing Percent Slop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actor that is calculated based on rainfall, soil erosion, soil loss, and conservation pract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be given to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actor that considers the slope length and percent sl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will determine based on a given 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sing Percent Slop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sing Percent Slop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 is calculated with Z and 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ce you have C, it’s value determines how land can be us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3994920" y="259092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Z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3836880" y="3254400"/>
            <a:ext cx="74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traight Connector 8"/>
          <p:cNvSpPr/>
          <p:nvPr/>
        </p:nvSpPr>
        <p:spPr>
          <a:xfrm>
            <a:off x="3733920" y="3276720"/>
            <a:ext cx="990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ses of Land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ventional Till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on plow that turns slices, lifts, and turns so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hing left on the su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isel Till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ified plow that leaves some residue on the su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Zero Till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plowing with very little residue on su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ses of Land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106200" y="2209680"/>
            <a:ext cx="978372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oil Color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soi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at color when w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rker color = more organic ma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rker color = more nutrients (nitrogen and phosphoru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rker color = less runoff and less eros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oil Color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bsoi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ght brown or yellow color = lots of air in so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od drain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y or olive color = lots of wat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or drain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oil Color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metimes there is a gray line between the topsoil and subsoi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ually only found where there is timber and lots of vege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vents water movement and root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n as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horiz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hat is a soil profile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soil profil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 vertical cross-section of the soil. When exposed, various layers of soil should be appar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30" descr="318"/>
          <p:cNvPicPr/>
          <p:nvPr/>
        </p:nvPicPr>
        <p:blipFill>
          <a:blip r:embed="rId1"/>
          <a:stretch/>
        </p:blipFill>
        <p:spPr>
          <a:xfrm>
            <a:off x="4419720" y="1066680"/>
            <a:ext cx="444168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266724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the major horizons of a soil profile and how do they differ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jor Horizons of a Soil Profi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” horizon is an organic layer composed of partially decayed plant and animal debri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generally occurs in undisturbed soil such as in a fore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67760" indent="-167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” horizon is often referred to as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topsoil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is the surface layer where organic matter accumulat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419760" indent="-111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 horizon provides the bes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 for the growth o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nt roots, microorganism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and other lif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67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327"/>
          <p:cNvPicPr/>
          <p:nvPr/>
        </p:nvPicPr>
        <p:blipFill>
          <a:blip r:embed="rId1"/>
          <a:stretch/>
        </p:blipFill>
        <p:spPr>
          <a:xfrm>
            <a:off x="6629400" y="4343400"/>
            <a:ext cx="22129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jor Horizons of a Soil Profi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” horizon is referred to as the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subsoi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 horizon will have less organic matter and more clay than the A horiz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where most of the plant roots grow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5" descr="350"/>
          <p:cNvPicPr/>
          <p:nvPr/>
        </p:nvPicPr>
        <p:blipFill>
          <a:blip r:embed="rId1"/>
          <a:stretch/>
        </p:blipFill>
        <p:spPr>
          <a:xfrm>
            <a:off x="1143000" y="3479760"/>
            <a:ext cx="67597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jor Horizons of a Soil Profi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” horizon is referred to as the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substrat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01040" indent="-15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lacks the properties of the A and B horizons since it is influenced less by the soil forming proces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01040" indent="-15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usually the parent material of the soi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5040" indent="-185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” horizon is the underlying bedrock, such as limestone, sandstone, or granit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01040" indent="-15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found beneath the C horiz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ercent Slop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to determine in order to determine use of soi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ation need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ye he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d he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ance to r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ercent Slop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Group 11"/>
          <p:cNvGrpSpPr/>
          <p:nvPr/>
        </p:nvGrpSpPr>
        <p:grpSpPr>
          <a:xfrm>
            <a:off x="1752480" y="2362320"/>
            <a:ext cx="5654520" cy="840600"/>
            <a:chOff x="1752480" y="2362320"/>
            <a:chExt cx="5654520" cy="840600"/>
          </a:xfrm>
        </p:grpSpPr>
        <p:sp>
          <p:nvSpPr>
            <p:cNvPr id="103" name="TextBox 6"/>
            <p:cNvSpPr/>
            <p:nvPr/>
          </p:nvSpPr>
          <p:spPr>
            <a:xfrm>
              <a:off x="2107800" y="2362320"/>
              <a:ext cx="375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ye height – Rod height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TextBox 7"/>
            <p:cNvSpPr/>
            <p:nvPr/>
          </p:nvSpPr>
          <p:spPr>
            <a:xfrm>
              <a:off x="2671200" y="2743200"/>
              <a:ext cx="25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istance to rod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TextBox 8"/>
            <p:cNvSpPr/>
            <p:nvPr/>
          </p:nvSpPr>
          <p:spPr>
            <a:xfrm>
              <a:off x="6423120" y="251460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X 100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Straight Connector 10"/>
            <p:cNvSpPr/>
            <p:nvPr/>
          </p:nvSpPr>
          <p:spPr>
            <a:xfrm>
              <a:off x="1752480" y="2819520"/>
              <a:ext cx="4419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ercent Slop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-2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flat, plant with many row crops, little water erosion, but will hold lots of 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-15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t many row crops, soil erosion can increase with increased sl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5-20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e soil erosion, not good for crops, used mainly for grazing, forests, and recre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2:29:18Z</dcterms:created>
  <dc:creator>Lindi Kocher</dc:creator>
  <dc:description/>
  <cp:keywords/>
  <dc:language>en-US</dc:language>
  <cp:lastModifiedBy>Alicia Burge</cp:lastModifiedBy>
  <dcterms:modified xsi:type="dcterms:W3CDTF">2010-10-05T15:09:25Z</dcterms:modified>
  <cp:revision>138</cp:revision>
  <dc:subject/>
  <dc:title>Horticulture Sci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21033</vt:lpwstr>
  </property>
</Properties>
</file>